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60C9C-3BFC-43E0-AF42-09754A6F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94917-CBCD-4940-8488-8A6A327A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2C7D1-F89A-4EE5-81FE-3B12AF1D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613EF-921E-4FBA-B57A-F4D22595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4A65-5428-4919-95BC-DF557996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067B-C2D1-417B-94AA-D481DBAB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D1BC-B495-4676-A9CE-AF2D58ED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09D4-5DCD-487E-91D6-B1AA66AE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0AC3-52D4-47A0-B297-5976520F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2325-95E6-4C2E-B1DE-F05BB680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8C5D-E3A9-484E-99A4-28164CC0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97C20-2089-461A-BEE0-49296709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8E5F-1C55-4F71-B221-81EB02CD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4394-5018-4219-A2B3-66C4818C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2235-22E0-4923-9828-6B296183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6DA3-5C6A-46EC-A25F-9066B6A6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CC47-E643-4D3A-9D50-0CC3331B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8AD02-3AD2-4069-9F50-D87DF6C6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7754B-913F-4A5F-9C29-7F90C068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4C80C-E378-4B4A-AEBB-5E03BE2B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639AF-12B5-42C8-8B86-8A19FFB7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87ABF-7DA3-40D3-B127-C2899915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3B71E-890A-43E3-B2B7-27C55FEB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2E900-DD25-44DB-9D2E-B658F198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59BB-9F46-4CFA-B0CC-AEB0AC7DC4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8670-1B39-49A9-A0D6-5531B1D4FC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0280" y="1650600"/>
            <a:ext cx="76471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attack can match the word with the ciphertext to discover the perm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98720" y="2367000"/>
            <a:ext cx="1087200" cy="4491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11360" y="2690640"/>
            <a:ext cx="4805640" cy="4083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008080" y="4033800"/>
            <a:ext cx="1155960" cy="592200"/>
          </a:xfrm>
          <a:prstGeom prst="wedgeRoundRectCallout">
            <a:avLst>
              <a:gd name="adj1" fmla="val -44504"/>
              <a:gd name="adj2" fmla="val 7010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85040" y="2819520"/>
            <a:ext cx="1155600" cy="591840"/>
          </a:xfrm>
          <a:prstGeom prst="wedgeRoundRectCallout">
            <a:avLst>
              <a:gd name="adj1" fmla="val -44504"/>
              <a:gd name="adj2" fmla="val 7010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49FBB-558A-447B-A9E3-F8BDD2304D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4T01:35:16Z</dcterms:modified>
  <cp:revision>68</cp:revision>
  <dc:subject/>
  <dc:title>CAP Cryptographic Analysis Program</dc:title>
</cp:coreProperties>
</file>